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C9A-2ED7-4FB0-8D9B-C6098121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720-70F3-436F-9934-61821B9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FA5-0601-4647-9EBE-96288E3A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B48-DD35-4966-9D49-1833B9B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D6E2-D2E7-46D5-9E09-103EB7E5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6CD3-1D1E-40C7-A1D4-91BE6385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D5EC-2ADC-47C7-A8C6-ED3BE84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C87-E9FF-4FC6-800A-F3696D32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1251-73C2-429A-944B-E39EF51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B17-885F-403A-8C2B-EF17A8A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894D-715C-47F0-B54D-C05B3EB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AAC-6B89-484E-80DA-AE27388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C978-7336-4732-BC19-57082DF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BDAF-34D7-4A4F-8801-3F096F6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0142-27AC-4320-982E-129994D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273-4CFB-4A31-9279-C87F3E50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6836-FD67-47CE-B2D9-9C37F4D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128-19D4-4A7C-9C3B-2DDCBB5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FC1-505C-48B2-8B1E-83649616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C05-FED9-4A96-88C8-9AB0EDA4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656-258F-4467-ACA7-C6BB3ED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EF0-265C-4BB8-8CED-60DC8A6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2B0-71C5-4636-8130-40DD820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FE3-C4EB-40FE-BD87-6E1A1AD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8CA-BDED-4522-9576-87A87EB7E1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F4B-E230-417A-9FC3-5821F5010E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700" spc="-1" strike="noStrike">
                <a:solidFill>
                  <a:srgbClr val="ffffcc"/>
                </a:solidFill>
                <a:latin typeface="Arial"/>
              </a:rPr>
              <a:t>Vocational Rehabilitat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Hazel Armstro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Barrister and Solicit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June 2009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Arial"/>
              </a:rPr>
              <a:t>High Quality Rehabilitation</a:t>
            </a:r>
            <a:br>
              <a:rPr sz="4000"/>
            </a:br>
            <a:r>
              <a:rPr b="0" lang="en-NZ" sz="4000" spc="-1" strike="noStrike">
                <a:solidFill>
                  <a:srgbClr val="ffffcc"/>
                </a:solidFill>
                <a:latin typeface="Arial"/>
              </a:rPr>
              <a:t>Earnings to be taken into accou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From 1</a:t>
            </a:r>
            <a:r>
              <a:rPr b="0" lang="en-NZ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 October 2008, the person’s earnings at time of injury are relevant when deciding on suitable alternate wor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Relevant for those in employment and those whose employment has been terminat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VR must be tailored to high quality rehabilitation outcom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This provision applies for rehabilitation plans developed after 1</a:t>
            </a:r>
            <a:r>
              <a:rPr b="0" lang="en-NZ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 October 200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New Policy - Abat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Earnings do not includ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payment made on termination of employment in respect of leave entitlements (e.g. holiday pay) </a:t>
            </a:r>
            <a:r>
              <a:rPr b="0" i="1" lang="en-NZ" sz="2400" spc="-1" strike="noStrike">
                <a:solidFill>
                  <a:srgbClr val="eaeaea"/>
                </a:solidFill>
                <a:latin typeface="Verdana"/>
              </a:rPr>
              <a:t>(NEW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Redundancy payme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Retiring allowances e.g. medical retireme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Pension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Therefore these earnings cannot be abated against weekly compensation. Collective Employment Agreements should be amended to reflect the IPRC Act 2001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The amendments to the IPRC Act 2001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Provides incentives for high quality Vocational Rehabilit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Poses new challenges to employers and AC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Gives greater protection to injured employees especially ageing work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In this presentation I am focussing on the legal incentives provided by the 2008 Amendment Ac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New incentives on employers and ACC to help older workers to recover and get back to wor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New incentives to provide high quality rehabilit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New incentives to provide for longer periods of rehabilit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Verdana"/>
              </a:rPr>
              <a:t>New provision focussing on fair compensation for injured employe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Arial"/>
              </a:rPr>
              <a:t>Vocational rehabilitation and ageing workfor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People are working for longer – NZ has an ageing workfor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Desire for employers and society to retain skilled older workers in the workfor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Desire by workers to stay in the workforce longer to retain connection to the workplace and to maintain higher income from earnings (cf superannuatio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Reasons for ageing work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Age of eligibility to superannuation may be extended out to 6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Level of superannuation may not be sufficient to support people living solely on superannu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Family members may not be in a position to support older people at ho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Society may wish to encourage people to stay in work long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People are healthier for long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cc"/>
                </a:solidFill>
                <a:latin typeface="Arial"/>
              </a:rPr>
              <a:t>Age Discrimination and vocational rehabilitation</a:t>
            </a:r>
            <a:br>
              <a:rPr sz="2600"/>
            </a:b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From 1</a:t>
            </a:r>
            <a:r>
              <a:rPr b="0" lang="en-NZ" sz="32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 October 2008 IPRC Act amen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Section 85 – provision of vocational rehabilitation – amen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Receipt of superannuation no longer a ground for discrimination against claimants seeking vocational rehabili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Arial"/>
              </a:rPr>
              <a:t>Age discrimination and vocational rehabili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ACC cannot discriminate on the basis of ag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Section 19 of the Bill of Rights Act and Human Rights Act appl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Section 21, The Human Rights Act 1993 prohibits discrimination on the basis of 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An employer cannot discriminate on the basis of age. Section 105 ERA says such discrimination is a ground for a personal grieva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New duty to provide V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If an older worker is injured whilst they are employed, there will be a duty to provide vocational rehabilitation on the employer and AC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An injured ageing worker can seek vocational rehabilitatio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If an employer does not provide vocational rehabilitation and terminates the employee because they are not medically fit to work, this would be a ground for unjustifiable dismiss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Arial"/>
              </a:rPr>
              <a:t>New policy for ageing work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ACC and the employer should provide information about these new righ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Verdana"/>
              </a:rPr>
              <a:t>ACC and employers should advise ageing workers how to access vocational rehabilita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Arial"/>
              </a:rPr>
              <a:t>High Quality Rehabilitation</a:t>
            </a:r>
            <a:br>
              <a:rPr sz="4000"/>
            </a:br>
            <a:r>
              <a:rPr b="0" lang="en-NZ" sz="4000" spc="-1" strike="noStrike">
                <a:solidFill>
                  <a:srgbClr val="ffffcc"/>
                </a:solidFill>
                <a:latin typeface="Arial"/>
              </a:rPr>
              <a:t>VR can be for longer than 3 year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From 1</a:t>
            </a:r>
            <a:r>
              <a:rPr b="0" lang="en-NZ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 October 2008 VR can be longer than 3 years in du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E.g. graduated return to work, selected du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Retraining can be 3 years in du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Legal incentive has been provided to ensure full recovery before return to wor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Verdana"/>
              </a:rPr>
              <a:t>Employers risk PG or review proceedings under IPRC A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1:50:02Z</dcterms:created>
  <dc:creator>Hazel Armstrong</dc:creator>
  <dc:description/>
  <dc:language>en-US</dc:language>
  <cp:lastModifiedBy>Hazel Armstrong</cp:lastModifiedBy>
  <dcterms:modified xsi:type="dcterms:W3CDTF">2009-06-17T05:43:20Z</dcterms:modified>
  <cp:revision>4</cp:revision>
  <dc:subject/>
  <dc:title>A new policy for vocational Rehabilitation</dc:title>
</cp:coreProperties>
</file>